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F3E8-390F-45AC-A107-87D2A0E5B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83A1-13B5-46F0-B553-1000611F6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9560-664E-4430-B7E6-C7994BDC2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CDA5-9694-4D3B-B92B-06D183788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94DE-D162-40A0-91BF-022DFB1E3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6F49-BA23-4324-89F5-02CB7BC70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62F0-9924-4294-A3D6-6C6BCA9A8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8D5D-9046-49B8-85A3-85BB4699E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C02E-386F-4F77-88A2-EFF13E9E2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1B96-57A7-4B09-B0FD-A0057A48D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03EA-8B23-4549-924B-EA7A3F610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57BA-F4FD-4B37-A6D7-C2965D005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C48-CB5C-497F-B8AE-7D2D87C95C6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hyperlink" Target="http://www.intel.com/education/au/visualrankin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hyperlink" Target="http://www.intel.com/education/au/visualranking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Reflecting On Your Use of th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ng on your use of th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the benefit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DA75-E9BF-4849-8677-68F16DEF1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Power of Visual Ranking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5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ew the Power of 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igned to support the type of activities that cover the entir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nge of cognitive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sidering How the Visual Ranking Tool Can b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egrated into a Classroom Projec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is open-ended and content fre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can be integrated into existing units and projec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ool supports a variety of strategi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DAC9-954E-48EE-B790-22F78BE922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visual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Proj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lect two or three project or unit exampl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ho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s used in each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your thoughts and idea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project examples in Appendix C.03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8CE-ECE9-480C-A347-E14B4E89E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nking about Your Unit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1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ideas for effective uses of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er to the Project Rubric on page 2.15 – 2.16 to help clarify your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4909-1418-41B1-B0F0-A814D9F81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Visual Ranking 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12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7600" y="1514520"/>
            <a:ext cx="82756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visual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Visual Ranking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9F93-0D35-4933-B4C1-E7F2244D2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5 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5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600200"/>
          <a:ext cx="8237520" cy="26665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5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47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Aft>
                          <a:spcPts val="400"/>
                        </a:spcAft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ny project that has students prioritizing, choosing among options, and/or evaluating different perspectives could benefit from 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10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an be used at any stage of a learning project to help students discuss their prior knowledge, put learning in a new context, or to assess or reflect on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7A3D-7106-4CA1-B1A5-58AAF0625A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 Visual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nking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ool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r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Your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y out a project idea that incorporates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B826-7D37-46CD-9D39-E2D973B2A7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69F1-9D6A-4A02-84DC-A20928941B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odule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ssessment metho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 evaluat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sessmen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an Assessmen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CA3D-D27E-4B86-B6DB-27997FB031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5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Visual Ranking Tool to Target Thinking Skills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AB02-1A5A-41C1-B010-716D92155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066680"/>
          <a:ext cx="8237520" cy="4343400"/>
        </p:xfrm>
        <a:graphic>
          <a:graphicData uri="http://schemas.openxmlformats.org/drawingml/2006/table">
            <a:tbl>
              <a:tblPr/>
              <a:tblGrid>
                <a:gridCol w="1906560"/>
                <a:gridCol w="633096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9ED5-F5D6-4C05-86D8-B19D7FC2BE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Visual Ranking Tool to Targe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914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in depth that integrates the use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517760"/>
            <a:ext cx="4129200" cy="41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6C63-496C-45F7-BBBF-CFB3C0CD7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000" y="272880"/>
            <a:ext cx="833292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Visual Ranking in Actio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Benefits of Thinking Tool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5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udent benefit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acher 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management benef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9953-98BD-4DF4-8EB0-D8BF6969FC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troducing List Ranking in the Classroom –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5.02–5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Too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helps stud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yse and evaluate items in a list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criteria for sort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oritise ite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ain reaso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are lists visuall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egotiate and adju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from multiple perspectiv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988A-2C22-4B69-8412-8C464AE37D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Brainstorming a Lis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a li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small groups, brainstorm a list of flow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list with the whole cla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apse items that are simila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Logging In as a Studen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og in as a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anking Flow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087A-E529-4710-9430-E55EEEE2B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roducing the Visual Ranking Tool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Ranking and Comparing the Lis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5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nk and compare the li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nk and provide rationale in Comments bo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are and discuss your list with another tea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and discuss the “class aver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1F46-AA38-4A0E-B13B-0BA377C92B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6:11Z</dcterms:modified>
  <cp:revision>116</cp:revision>
  <dc:subject/>
  <dc:title>Presentation Title Goes Here</dc:title>
</cp:coreProperties>
</file>